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5DD-5CA3-405C-981C-0BAE00E8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F1C-F585-4F23-BF99-FC9555A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E25-AC3C-49E5-9886-5648BB8B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0C8-60DF-423A-B0AF-2A93D7B6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5D5-C54C-4F64-A585-4FF20665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381-5E69-458A-8316-FB2D6C16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9CC-1C27-472C-9D7E-7B0946D0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0B8-51AB-4A25-9D69-33535D5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75A-E7C0-4D4F-87CA-57501DD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065-4C3F-4E7F-AD32-47B347D1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188-5237-4EF1-85EC-81469D8C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2BC-3E68-4F6F-A6CD-F7CD41DD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948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948f60"/>
                  </a:gs>
                  <a:gs pos="50000">
                    <a:srgbClr val="c1bfa1"/>
                  </a:gs>
                  <a:gs pos="100000">
                    <a:srgbClr val="948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948f60"/>
                  </a:gs>
                  <a:gs pos="50000">
                    <a:srgbClr val="c1bfa1"/>
                  </a:gs>
                  <a:gs pos="100000">
                    <a:srgbClr val="948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c1b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948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948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948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948f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523d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d0ce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d0ce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d0ceb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523d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948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d0ce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948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d0c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d0c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948f6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23d24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9880" indent="-27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115632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1562760" indent="-221400">
              <a:lnSpc>
                <a:spcPct val="120000"/>
              </a:lnSpc>
              <a:spcBef>
                <a:spcPts val="700"/>
              </a:spcBef>
              <a:buClr>
                <a:srgbClr val="523d2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523d2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523d2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523d2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2760"/>
            <a:ext cx="7483680" cy="398880"/>
          </a:xfrm>
          <a:prstGeom prst="rect">
            <a:avLst/>
          </a:prstGeom>
          <a:noFill/>
          <a:ln cap="rnd" w="93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0000cc"/>
                </a:solidFill>
                <a:latin typeface="隶书"/>
                <a:ea typeface="隶书"/>
              </a:rPr>
              <a:t>12</a:t>
            </a:r>
            <a:r>
              <a:rPr b="1" lang="zh-CN" sz="2000" spc="-1" strike="noStrike">
                <a:solidFill>
                  <a:srgbClr val="0000cc"/>
                </a:solidFill>
                <a:latin typeface="隶书"/>
                <a:ea typeface="隶书"/>
              </a:rPr>
              <a:t>章  终端服务的安装与设置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38120"/>
            <a:ext cx="1143000" cy="0"/>
          </a:xfrm>
          <a:prstGeom prst="line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552720" y="438120"/>
            <a:ext cx="1143000" cy="0"/>
          </a:xfrm>
          <a:prstGeom prst="line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48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948f60"/>
                  </a:gs>
                  <a:gs pos="50000">
                    <a:srgbClr val="c1bfa1"/>
                  </a:gs>
                  <a:gs pos="100000">
                    <a:srgbClr val="948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948f60"/>
                  </a:gs>
                  <a:gs pos="50000">
                    <a:srgbClr val="c1bfa1"/>
                  </a:gs>
                  <a:gs pos="100000">
                    <a:srgbClr val="948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c1b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948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948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948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48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948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948f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523d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d0ce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d0ce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ceb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23d24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d0ce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23d24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d0ceb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523d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948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d0ce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523d24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948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d0c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d0ce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523d2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948f6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0ceb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23d2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5c332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5c332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5c332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5c332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5c332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1B8-E867-4C18-8326-9B797CCDEBDA}" type="slidenum">
              <a:rPr b="0" i="1" lang="zh-CN" sz="1400" spc="-1" strike="noStrike">
                <a:solidFill>
                  <a:srgbClr val="5c332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40.xml"/><Relationship Id="rId10" Type="http://schemas.openxmlformats.org/officeDocument/2006/relationships/slide" Target="slide40.xml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2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章  终端服务的安装与设置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6172200" cy="41148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2.1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终端服务的概述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12.2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安装终端服务器与客户端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12.3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远程管理与远程控制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12.4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终端服务器的设置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12.5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在终端服务器安装应用程序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单击“完成” 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选择“开始”→“程序”→“管理工具”→“终端服务授权”选项。打开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窗口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选择“激活服务器”命令启动授权向导。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“连接方法”对话框中，选择注册的连接方法。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“授权计划”对话框中，指定所购买许可证的形式。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激活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IN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然后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若已经得到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IN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可以选择“立即完成服务器激活过程”， 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1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“激活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IN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中，键入从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icrosof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收到的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IN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在“立即安装许可证”窗口中，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单击“完成”以完成许可证服务器的安装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147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07" name="2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095880" cy="4464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62120" y="5867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3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选择终端服务应用程序的兼容方式 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33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10" name="21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029200" cy="3670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5248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4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选择终端服务授权 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33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13" name="Serverljjpictures2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105520" cy="3726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676520" y="5715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5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指定许可证服务器的角色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004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16" name="23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943600" cy="25178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676520" y="5181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6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未激活的许可证服务器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3717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19" name="Serverljjpictures2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38680" cy="41162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209680" y="5715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7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选择注册的连接方式 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3717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22" name="Serverljjpictures2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029200" cy="3672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81080" y="54864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8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选择购买许可证的形式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3717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25" name="Serverljjpictures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62720" cy="4062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209680" y="5715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523d24"/>
                </a:solidFill>
                <a:latin typeface="Times New Roman"/>
              </a:rPr>
              <a:t>12-9  </a:t>
            </a:r>
            <a:r>
              <a:rPr b="0" lang="zh-CN" sz="2800" spc="-1" strike="noStrike">
                <a:solidFill>
                  <a:srgbClr val="523d24"/>
                </a:solidFill>
                <a:latin typeface="Times New Roman"/>
              </a:rPr>
              <a:t>选择注册的连接方式 </a:t>
            </a:r>
            <a:endParaRPr b="0" lang="en-US" sz="28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3717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28" name="Serverljjpictures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10440" cy="3949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209680" y="5715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0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选择购买许可证的形式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6324480"/>
            <a:ext cx="1447920" cy="3988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23d24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315200" cy="259056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Wingdings"/>
                <a:ea typeface="Wingdings"/>
              </a:rPr>
              <a:t>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   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组策略概述</a:t>
            </a:r>
            <a:endParaRPr b="1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Wingdings"/>
                <a:ea typeface="Wingdings"/>
              </a:rPr>
              <a:t>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   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管理模板策略的设置</a:t>
            </a:r>
            <a:endParaRPr b="1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Wingdings"/>
                <a:ea typeface="Wingdings"/>
              </a:rPr>
              <a:t>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Windows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设置策略的管理</a:t>
            </a:r>
            <a:endParaRPr b="1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Wingdings"/>
                <a:ea typeface="Wingdings"/>
              </a:rPr>
              <a:t>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通过软件设置策略部署应用程序</a:t>
            </a:r>
            <a:endParaRPr b="1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8660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23d24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12.2.3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安装终端客户端连接软件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6705720" cy="129528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）通过网络安装终端客户端软件。 </a:t>
            </a:r>
            <a:endParaRPr b="1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）通过客户端安装磁盘安装。 </a:t>
            </a:r>
            <a:endParaRPr b="1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003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34" name="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29400" cy="27939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219320" y="54100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1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创建终端服务的客户端安装盘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6324480"/>
            <a:ext cx="1447920" cy="3988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23d24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12.3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远程管理与远程控制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2514600"/>
            <a:ext cx="5105160" cy="266688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Arial"/>
                <a:hlinkClick r:id="rId1" action="ppaction://hlinksldjump"/>
              </a:rPr>
              <a:t>12.3.1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黑体"/>
                <a:hlinkClick r:id="rId2" action="ppaction://hlinksldjump"/>
              </a:rPr>
              <a:t>远程管理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Arial"/>
                <a:hlinkClick r:id="rId3" action="ppaction://hlinksldjump"/>
              </a:rPr>
              <a:t>12.3.2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黑体"/>
                <a:hlinkClick r:id="rId4" action="ppaction://hlinksldjump"/>
              </a:rPr>
              <a:t>中断终端会话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Arial"/>
                <a:hlinkClick r:id="rId5" action="ppaction://hlinksldjump"/>
              </a:rPr>
              <a:t>12.3.3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黑体"/>
                <a:hlinkClick r:id="rId6" action="ppaction://hlinksldjump"/>
              </a:rPr>
              <a:t>远程控制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8660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23d24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12.3.1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远程管理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运行“终端服务客户端”程序，连接终端服务器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1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窗口时，请在“可用服务器”列表处选择要连接的终端服务器，单击“连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1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对话框时，输入用户账户名称与密码以便登录。 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43" name="2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752480" y="5791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2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选择连接的终端服务器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981080" y="5638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3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登录到终端服务器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94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47" name="2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5101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8004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49" name="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248520" cy="3711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981080" y="5638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4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登录到终端服务器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86600" y="6324480"/>
            <a:ext cx="1447920" cy="3988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23d24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2.3.2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中断终端会话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6933960" cy="22860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客户端可以通过以下两种方式之一来中断与终端服务器的会话： 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中断与会话的连接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注销会话。 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6324480"/>
            <a:ext cx="1447920" cy="3988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23d24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2.3.3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远程控制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利用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Administrator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账户登录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在“终端服务客户端”窗口中，选择 “终端服务管理器” 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选择要控制的会话（客户端）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选择用来结束远程控制的快捷键，单击“确定”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单击“是” 、“否”或者不做选择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要结束，停止监视与控制该客户端，则只要按快捷键即可 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3670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752480" y="1143000"/>
          <a:ext cx="5715000" cy="44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71500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205740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5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远程控制</a:t>
            </a:r>
            <a:r>
              <a:rPr b="1" lang="en-US" sz="2400" spc="-1" strike="noStrike">
                <a:solidFill>
                  <a:srgbClr val="523d24"/>
                </a:solidFill>
                <a:latin typeface="Times New Roman"/>
              </a:rPr>
              <a:t>zs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用户 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12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终端服务的概述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一种新的低成本的硬件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任何现有的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Windows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桌面操作系统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Windows for Workgroups 3.11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通过第三方提供的硬件板卡，集成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Windows C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ROM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网卡和显示卡的三合一或二合一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PC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卡。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支持本地的打印机、支持会话重影、嵌入在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Web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浏览器中的终端客户端 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23d24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5100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62" name="2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410440" cy="2982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905120" y="54864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6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远程控制结束快捷键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5337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65" name="20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095880" cy="1985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219320" y="5105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7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选择是否接受远程控制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6600" y="6324480"/>
            <a:ext cx="1447920" cy="3988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23d24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12.4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终端服务器的设置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057400" y="2286000"/>
            <a:ext cx="5486400" cy="27432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数据传输加密的设置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远程控制的设置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登录设置值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权限设置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用户工作环境的设置</a:t>
            </a:r>
            <a:endParaRPr b="1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660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23d24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2338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72" name="2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81680" cy="2436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600200" y="5334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8  “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终端服务配置”对话框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629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75" name="25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02240" cy="4038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286000" y="5715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9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设置加密级别 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6100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78" name="26" descr=""/>
          <p:cNvPicPr/>
          <p:nvPr/>
        </p:nvPicPr>
        <p:blipFill>
          <a:blip r:embed="rId1"/>
          <a:stretch/>
        </p:blipFill>
        <p:spPr>
          <a:xfrm>
            <a:off x="2257560" y="1219320"/>
            <a:ext cx="3990960" cy="426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67652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20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远程控制的设置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362320" y="5867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21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用户的“远程控制”设置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90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82" name="27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05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6100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84" name="29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3848400" cy="41148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523880" y="59436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22  “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登录设置”选项卡 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62120" y="6019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23  “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权限”选项卡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100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88" name="20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4133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6100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390" name="28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990960" cy="42674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523880" y="6019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24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终端服务配置文件的设置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86600" y="6324480"/>
            <a:ext cx="1447920" cy="3988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23d24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12.2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安装终端服务器与客户端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5410080" cy="396216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Arial"/>
                <a:hlinkClick r:id="rId1" action="ppaction://hlinksldjump"/>
              </a:rPr>
              <a:t>12.2.1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黑体"/>
                <a:hlinkClick r:id="rId2" action="ppaction://hlinksldjump"/>
              </a:rPr>
              <a:t>终端服务器的安装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黑体"/>
                <a:hlinkClick r:id="rId3" action="ppaction://hlinksldjump"/>
              </a:rPr>
              <a:t>12.2.2  终端服务授权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8660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23d24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12.5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在终端服务器安装应用程序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6400800" cy="27432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Arial"/>
                <a:hlinkClick r:id="rId1" action="ppaction://hlinksldjump"/>
              </a:rPr>
              <a:t>12.5.1  </a:t>
            </a:r>
            <a:r>
              <a:rPr b="1" lang="zh-CN" sz="2800" spc="-1" strike="noStrike" u="sng">
                <a:solidFill>
                  <a:srgbClr val="e0c036"/>
                </a:solidFill>
                <a:uFillTx/>
                <a:latin typeface="Arial"/>
                <a:ea typeface="黑体"/>
                <a:hlinkClick r:id="rId2" action="ppaction://hlinksldjump"/>
              </a:rPr>
              <a:t>安装应用程序的方法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黑体"/>
              </a:rPr>
              <a:t>12.5.2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黑体"/>
              </a:rPr>
              <a:t>使用应用程序兼容性命令文件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8660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23d24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12.5.1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安装应用程序的方法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利用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change user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命令</a:t>
            </a:r>
            <a:endParaRPr b="1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利用“控制面板”内的“添加删除程序”</a:t>
            </a:r>
            <a:endParaRPr b="1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86600" y="6324480"/>
            <a:ext cx="1447920" cy="3988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23d24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12.5.2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使用应用程序兼容性命令文件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icrosof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已经为一些应用程序编写了所谓的“应用程序兼容性命令文件”，例如，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icrosoft Office 95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icrosoft Office 9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等，这些命令文件位于终端服务器的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%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systemroot%\Application Compatibility Scripts\Instal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文件夹内。只要运行相应的命令文件，它就会自动修改应用程序。使其更加适合于终端服务器的共享应用。 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86600" y="6324480"/>
            <a:ext cx="1447920" cy="3988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23d24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4290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86600" y="6248520"/>
            <a:ext cx="1676520" cy="3682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23d24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endshow"/>
          </p:cNvPr>
          <p:cNvSpPr/>
          <p:nvPr/>
        </p:nvSpPr>
        <p:spPr>
          <a:xfrm>
            <a:off x="5920560" y="6264360"/>
            <a:ext cx="788760" cy="3682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23d24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12.2.1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终端服务器的安装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选择“开始”→“设置”→“控制面板”→“添加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删除程序”→“添加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删除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件”选项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从“组件”列表内选取“终端服务”，如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完成后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画面时，选择终端服务的运行模式，完成后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出现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画面时，选择终端服务应用程序的兼容方式，完成后单击“下一步”按钮。 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在“完成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组件向导”对话框中单击“完成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重新启动，设置的终端服务生效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3864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296" name="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486400" cy="39402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447920" y="5562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1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添加“终端服务”组件 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33864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pic>
        <p:nvPicPr>
          <p:cNvPr id="299" name="2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676520" y="5638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12-2  </a:t>
            </a:r>
            <a:r>
              <a:rPr b="1" lang="zh-CN" sz="2400" spc="-1" strike="noStrike">
                <a:solidFill>
                  <a:srgbClr val="523d24"/>
                </a:solidFill>
                <a:latin typeface="Times New Roman"/>
              </a:rPr>
              <a:t>选择终端服务的运行模式</a:t>
            </a:r>
            <a:endParaRPr b="0" lang="en-US" sz="2400" spc="-1" strike="noStrike">
              <a:solidFill>
                <a:srgbClr val="523d24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6324480"/>
            <a:ext cx="1447920" cy="398880"/>
          </a:xfrm>
          <a:prstGeom prst="rect">
            <a:avLst/>
          </a:prstGeom>
          <a:noFill/>
          <a:ln cap="rnd" w="38160">
            <a:solidFill>
              <a:srgbClr val="e0c03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23d24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523d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12.2.2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终端服务授权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以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Administr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身份从服务器端登录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选择“开始”→“设置”→“控制面板”→“添加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删除程序”→“添加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删除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件”选项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出现“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组件”的窗口，从“组件”列表内选取“终端服务授权”，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选择“应用程序服务器模式”，单击“下一步”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2-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对话框中，指定许可证服务器的角色，，单击“下一步”按钮。</a:t>
            </a:r>
            <a:endParaRPr b="1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7:00:10Z</dcterms:created>
  <dc:creator>liwu</dc:creator>
  <dc:description/>
  <dc:language>en-US</dc:language>
  <cp:lastModifiedBy>新人电脑</cp:lastModifiedBy>
  <dcterms:modified xsi:type="dcterms:W3CDTF">2002-01-25T02:47:58Z</dcterms:modified>
  <cp:revision>15</cp:revision>
  <dc:subject/>
  <dc:title>第12章  终端服务的安装与设置</dc:title>
</cp:coreProperties>
</file>